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AEA-1DCE-4784-9D47-0C834B0E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48C-0A75-40E0-B0D3-808CD105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745-5B86-4097-909C-AD718059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621-FA0F-4CE6-B8FF-492B3C8A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6143-3FC7-4697-8995-601F4B60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03D3-5758-4DA4-899E-A07968C0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988C-70F6-4C03-A85D-5D067955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1FF2-B4EA-4F6F-B76D-1583E2CD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51B7-2887-4F08-A7BF-C2C62286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111B-A9E8-44B6-B535-0BE4C257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EA62-3145-42A6-8653-2602D8E3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517-07C1-42B9-99CC-35E50A24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81C7-61AE-4B8C-A3A5-F303F3DA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5C2E-EBAD-4E16-86CF-34A78F4A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BC56-B690-48AE-813D-F3AAB34D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845A-B040-4C49-916B-1C4F8A8D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CEAE-46FF-446B-AA0E-34953B4C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D037-9755-4B13-A1A4-E9C4F091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33B1-0372-4599-9989-D759838A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D6DB-4E7C-4FB6-9DEB-5D873C8D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B85A-95B6-4528-9969-52E4DD6A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5ED9-F0C8-4038-A12E-0BC33EBF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380-FFCB-4764-871C-B5B3BCAE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270FE-6B67-4264-9B1B-7A32F26A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E8EE-F581-41EC-91EF-E2B0AF8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DCD0-3E50-4B0E-B4D9-EBB1A6FB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1BBA-2CB3-427E-8E00-9CF9D1D9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10B2-56C8-4605-BFC1-E58AA96B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EEE7-14F0-4C29-808C-66A8A94F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07D0-70C1-4491-B894-07D824C6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03374-2975-422F-9D5F-229E124E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A8D0A-CEEF-430B-8E48-DB65D02F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AA37-9833-4489-970C-4B83545B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53E-A687-4695-862F-A79FEDD9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4A24-3020-4982-BB73-CE73AEA7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0B9CB-5BBE-4E58-9122-4FDF5762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B4C5A-9724-4B75-A7B0-759229C7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6C6C-EEA5-4AC3-8D3D-B24C5FD9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0B4C-B8EA-489C-9AEE-6AA395DC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7D62F-F947-44A6-9CC5-E57D98A1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FD2F5-A080-4A4B-A2D5-E18B290F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48B27-97EF-44C5-B1A7-79B98BD3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A2AF2-CCBF-4FFA-BF01-E737A00D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1C1C6-CB9E-4005-8A3D-8C0775AC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83C-0EF7-47E1-9C66-4309BC5C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4D2E3-D58B-439C-A63B-C3E2FC32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1F4B5-0666-4975-A0DA-A14D9660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748CC-5F60-458B-82D4-C8CE0A89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1AB28-F9D0-4CE4-96F9-E024FC77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CCE9E-8A96-4429-A603-5C0656DF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F2556-7B1C-473E-AE2A-FB9C2BB6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EDFA7-643F-4C6A-99C1-CC69332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8B72D-FB10-408F-92CF-64CF2A4C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80AB1-DB86-439A-ACD0-70F6DE3E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3B03-B4D3-49B4-9A8D-3171086A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5F8-D975-44AE-84B7-3679EAD5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6B925-79D4-4350-BEF9-C4367CEF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B19E5-5A50-48F3-87A0-EC08CC1B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3B9B9-62DB-4398-A527-791E7EFF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43A8F-3B86-4FB3-A3AB-DE4BB69A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56A56-F336-49B3-AB04-CAF646DE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FEB41-7A83-4A3A-BAA9-01C4D8E1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1636C-1F15-410C-9503-6979BD25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6929E-F5E1-4E92-ACEC-C79C26A6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EB0BA-AEED-4994-AB90-48ADB9A6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66C72-331A-4A34-A361-91F5EE12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054-6935-438A-93AD-69C86CB7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F9E1F-8380-4DDF-A453-F92F5DDC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746BF-B7FC-4369-B5D4-E75A89ED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F612F-6524-43AC-B34A-62049AF2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1ACCA-3935-4DBE-90E6-2236C8EC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0C350-DF11-47D0-9D07-DC96B5E6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5E89D-02B8-4BD3-8972-5E07717F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719E2-C08B-463B-92FF-70134E38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1F9A0-E193-4165-8B75-AADBF3FB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80652-533C-44FC-B41D-F543B598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E3AD3-004F-438C-BCF7-AEEAD6CF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D10-36B6-408A-B2ED-AF850BC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22A89-7F18-4CC9-A85E-B20FB9CD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99E0B-87E5-44A6-85C2-77CED998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09356-3651-42E1-8042-B4B9BCC0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B8B07-0AA1-4E6B-A047-5ACAC3E8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2D208-89B2-45C5-AAF0-D4361C81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7C4-D4C0-438B-BDD9-369813E4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B10A-292D-4B9F-9EFE-E9DE22502321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7CCC-28DA-4260-802F-50BCCAD51D70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962E-7A78-42FE-A555-38CC89869461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253D-9570-4D31-8282-36067A256AFD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F0A4-B3F2-4681-8264-C148DB8429CE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6146-05B5-44E2-9CDC-0E62510002D2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B94E-1B9A-4CAE-9901-D1C8C16B772E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rbel"/>
              </a:rPr>
              <a:t>Sinergetic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rbel"/>
              </a:rPr>
              <a:t>An interactive GPS-Based tour of Dunedi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71680" y="1600200"/>
            <a:ext cx="811512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First version of the PDA Softw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Supporting documen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92160" y="281160"/>
            <a:ext cx="8502480" cy="1150920"/>
          </a:xfrm>
          <a:prstGeom prst="rect">
            <a:avLst/>
          </a:prstGeom>
          <a:ln w="0">
            <a:noFill/>
          </a:ln>
        </p:spPr>
      </p:pic>
      <p:pic>
        <p:nvPicPr>
          <p:cNvPr id="308" name="Content Placeholder 3" descr="pdamap.jpg"/>
          <p:cNvPicPr/>
          <p:nvPr/>
        </p:nvPicPr>
        <p:blipFill>
          <a:blip r:embed="rId2"/>
          <a:stretch/>
        </p:blipFill>
        <p:spPr>
          <a:xfrm>
            <a:off x="142920" y="1571760"/>
            <a:ext cx="2643120" cy="5073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pdaimgview.jpg"/>
          <p:cNvPicPr/>
          <p:nvPr/>
        </p:nvPicPr>
        <p:blipFill>
          <a:blip r:embed="rId3"/>
          <a:stretch/>
        </p:blipFill>
        <p:spPr>
          <a:xfrm>
            <a:off x="6215040" y="1571760"/>
            <a:ext cx="2714760" cy="5072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sshot001.png"/>
          <p:cNvPicPr/>
          <p:nvPr/>
        </p:nvPicPr>
        <p:blipFill>
          <a:blip r:embed="rId4"/>
          <a:stretch/>
        </p:blipFill>
        <p:spPr>
          <a:xfrm>
            <a:off x="3000240" y="1571760"/>
            <a:ext cx="3071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2" name="Content Placeholder 3" descr="readme.jpg"/>
          <p:cNvPicPr/>
          <p:nvPr/>
        </p:nvPicPr>
        <p:blipFill>
          <a:blip r:embed="rId2"/>
          <a:stretch/>
        </p:blipFill>
        <p:spPr>
          <a:xfrm>
            <a:off x="1285920" y="1571760"/>
            <a:ext cx="61437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Revised version of PDA Softw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rbel"/>
              </a:rPr>
              <a:t>Implementing feedback from cli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PC-Based Tour Edit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Used to create and manipulate tours stored in an XML fi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Wizard-bas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Designed with the non-technical user in mi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Will ship with a number of tutorials (possibly video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Evaluation of second iteration deploymen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Review functional requirements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Design third iteration build for GPS tour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Design update for tour builder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October:  Final build  of Tour builder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October: GPS Tour updates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 Deployment documentation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Final Deployment of packaged produc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0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 Complete Documentation for projec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5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Prepare for Panel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6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Panel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14:53Z</dcterms:created>
  <dc:creator>Default-User</dc:creator>
  <dc:description/>
  <dc:language>en-US</dc:language>
  <cp:lastModifiedBy>Default-User</cp:lastModifiedBy>
  <dcterms:modified xsi:type="dcterms:W3CDTF">2009-07-31T06:57:49Z</dcterms:modified>
  <cp:revision>18</cp:revision>
  <dc:subject/>
  <dc:title>Sinergetics</dc:title>
</cp:coreProperties>
</file>